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5D5A-2F34-44D8-BF62-D790B5F58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0509-E2EF-45B3-A5B4-3CC65B21F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8525-4DC0-40E5-B0B9-64736B082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5796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48712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82880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65796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48712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F718-B1C6-4E7A-AF81-D71A1672E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AAB11-8307-4AED-A017-44114FD2C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BB32D-BEF2-4E7E-9D75-DD568FABB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0ED1E-C34C-4D3A-80AB-80CF87555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AF126-4A7B-40B3-A85D-CFD41C7F0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5F6F6-25E0-4C83-903B-96B3B2CA8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33160" y="380520"/>
            <a:ext cx="5638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C4A38-FC35-473E-9F4D-22024BECC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A3042-4151-456B-A395-D5E370CE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0274-6C91-446A-9D2D-A2EB4929D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F8F04-9CDA-4053-A137-67E2D6CF1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E1505-7E8D-48B4-B473-E17F4313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7D304-9CEA-4BBA-AEC4-DFB0BFC42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BCF04-E322-4078-9A83-74BDD5A5E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65796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48712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82880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65796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48712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7C282-0220-429D-AD22-2FD4D2287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E905-53C8-48F5-8A08-9A7BD3191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8425-1B97-4A87-A3E9-D3EC80FEB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97E1-2336-4293-8411-5544E81D9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33160" y="380520"/>
            <a:ext cx="5638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52AA-2DD3-4ABA-849B-84025DB12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75DE-ED95-4BC6-B6FB-C965FD743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6C6F-922B-4A1E-AEEF-65F7FC3B2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F5D5-E445-4298-83CA-4A7E77939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2" marL="1051560" indent="-21024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3" marL="1472040" indent="-21024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4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5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6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8288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425CC-725D-47FA-8878-ECDE5F056BA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11"/>
          <p:cNvGrpSpPr/>
          <p:nvPr/>
        </p:nvGrpSpPr>
        <p:grpSpPr>
          <a:xfrm>
            <a:off x="304920" y="165240"/>
            <a:ext cx="8813520" cy="6692760"/>
            <a:chOff x="304920" y="165240"/>
            <a:chExt cx="8813520" cy="6692760"/>
          </a:xfrm>
        </p:grpSpPr>
        <p:sp>
          <p:nvSpPr>
            <p:cNvPr id="6" name="Rectangle 12"/>
            <p:cNvSpPr/>
            <p:nvPr/>
          </p:nvSpPr>
          <p:spPr>
            <a:xfrm>
              <a:off x="304920" y="165240"/>
              <a:ext cx="5973480" cy="101592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7" name="Rectangle 13"/>
            <p:cNvSpPr/>
            <p:nvPr/>
          </p:nvSpPr>
          <p:spPr>
            <a:xfrm>
              <a:off x="469800" y="304920"/>
              <a:ext cx="6059520" cy="1104840"/>
            </a:xfrm>
            <a:prstGeom prst="rect">
              <a:avLst/>
            </a:prstGeom>
            <a:noFill/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8" name="Line 14"/>
            <p:cNvSpPr/>
            <p:nvPr/>
          </p:nvSpPr>
          <p:spPr>
            <a:xfrm>
              <a:off x="1765440" y="1192320"/>
              <a:ext cx="0" cy="5665680"/>
            </a:xfrm>
            <a:prstGeom prst="line">
              <a:avLst/>
            </a:prstGeom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9" name="Freeform 15"/>
            <p:cNvSpPr/>
            <p:nvPr/>
          </p:nvSpPr>
          <p:spPr>
            <a:xfrm>
              <a:off x="1015920" y="1079640"/>
              <a:ext cx="8102520" cy="2844720"/>
            </a:xfrm>
            <a:custGeom>
              <a:avLst/>
              <a:gdLst>
                <a:gd name="textAreaLeft" fmla="*/ 0 w 8102520"/>
                <a:gd name="textAreaRight" fmla="*/ 8102520 w 8102520"/>
                <a:gd name="textAreaTop" fmla="*/ 0 h 2844720"/>
                <a:gd name="textAreaBottom" fmla="*/ 2845080 h 2844720"/>
              </a:gdLst>
              <a:ahLst/>
              <a:rect l="textAreaLeft" t="textAreaTop" r="textAreaRight" b="textAreaBottom"/>
              <a:pathLst>
                <a:path w="4816" h="1984">
                  <a:moveTo>
                    <a:pt x="4816" y="0"/>
                  </a:moveTo>
                  <a:lnTo>
                    <a:pt x="0" y="0"/>
                  </a:lnTo>
                  <a:lnTo>
                    <a:pt x="0" y="1984"/>
                  </a:lnTo>
                  <a:lnTo>
                    <a:pt x="448" y="1984"/>
                  </a:lnTo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1"/>
          <p:cNvGrpSpPr/>
          <p:nvPr/>
        </p:nvGrpSpPr>
        <p:grpSpPr>
          <a:xfrm>
            <a:off x="1015920" y="0"/>
            <a:ext cx="5867640" cy="3822840"/>
            <a:chOff x="1015920" y="0"/>
            <a:chExt cx="5867640" cy="3822840"/>
          </a:xfrm>
        </p:grpSpPr>
        <p:sp>
          <p:nvSpPr>
            <p:cNvPr id="47" name="Rectangle 12"/>
            <p:cNvSpPr/>
            <p:nvPr/>
          </p:nvSpPr>
          <p:spPr>
            <a:xfrm>
              <a:off x="1879560" y="2171880"/>
              <a:ext cx="5004000" cy="165096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48" name="Rectangle 13"/>
            <p:cNvSpPr/>
            <p:nvPr/>
          </p:nvSpPr>
          <p:spPr>
            <a:xfrm>
              <a:off x="2116080" y="1955880"/>
              <a:ext cx="4538880" cy="1650960"/>
            </a:xfrm>
            <a:prstGeom prst="rect">
              <a:avLst/>
            </a:prstGeom>
            <a:noFill/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49" name="Freeform 14"/>
            <p:cNvSpPr/>
            <p:nvPr/>
          </p:nvSpPr>
          <p:spPr>
            <a:xfrm>
              <a:off x="1015920" y="0"/>
              <a:ext cx="1084320" cy="2768760"/>
            </a:xfrm>
            <a:custGeom>
              <a:avLst/>
              <a:gdLst>
                <a:gd name="textAreaLeft" fmla="*/ 0 w 1084320"/>
                <a:gd name="textAreaRight" fmla="*/ 1084680 w 1084320"/>
                <a:gd name="textAreaTop" fmla="*/ 0 h 2768760"/>
                <a:gd name="textAreaBottom" fmla="*/ 2769120 h 2768760"/>
              </a:gdLst>
              <a:ahLst/>
              <a:rect l="textAreaLeft" t="textAreaTop" r="textAreaRight" b="textAreaBottom"/>
              <a:pathLst>
                <a:path w="624" h="1416">
                  <a:moveTo>
                    <a:pt x="0" y="0"/>
                  </a:moveTo>
                  <a:lnTo>
                    <a:pt x="0" y="1416"/>
                  </a:lnTo>
                  <a:lnTo>
                    <a:pt x="624" y="1416"/>
                  </a:lnTo>
                </a:path>
              </a:pathLst>
            </a:custGeom>
            <a:noFill/>
            <a:ln w="9360">
              <a:solidFill>
                <a:srgbClr val="446e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50" name="Freeform 15"/>
            <p:cNvSpPr/>
            <p:nvPr/>
          </p:nvSpPr>
          <p:spPr>
            <a:xfrm>
              <a:off x="1219320" y="0"/>
              <a:ext cx="660240" cy="321948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3219480"/>
                <a:gd name="textAreaBottom" fmla="*/ 3219840 h 3219480"/>
              </a:gdLst>
              <a:ahLst/>
              <a:rect l="textAreaLeft" t="textAreaTop" r="textAreaRight" b="textAreaBottom"/>
              <a:pathLst>
                <a:path w="624" h="1416">
                  <a:moveTo>
                    <a:pt x="0" y="0"/>
                  </a:moveTo>
                  <a:lnTo>
                    <a:pt x="0" y="1416"/>
                  </a:lnTo>
                  <a:lnTo>
                    <a:pt x="624" y="1416"/>
                  </a:lnTo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2" marL="1051560" indent="-21024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3" marL="1472040" indent="-21024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4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5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6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73148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4114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2590920" y="6248520"/>
            <a:ext cx="1218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46eb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C6FA4-4478-4D89-9422-FAF3A6B43801}" type="slidenum">
              <a:rPr b="0" lang="en-US" sz="1000" spc="-1" strike="noStrike">
                <a:solidFill>
                  <a:srgbClr val="446eb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09320" y="2057400"/>
            <a:ext cx="4343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3e96"/>
                </a:solidFill>
                <a:latin typeface="Arial Black"/>
              </a:rPr>
              <a:t>Linking Verbs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09680" y="403812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Using and Identifying 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Linking Verbs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Practice Test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47560" y="1676520"/>
            <a:ext cx="30099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How are linking verbs different from action verbs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What are examples of linking verbs?</a:t>
            </a: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  <p:pic>
        <p:nvPicPr>
          <p:cNvPr id="96" name="Picture 5" descr="BD18239_"/>
          <p:cNvPicPr/>
          <p:nvPr/>
        </p:nvPicPr>
        <p:blipFill>
          <a:blip r:embed="rId1"/>
          <a:stretch/>
        </p:blipFill>
        <p:spPr>
          <a:xfrm>
            <a:off x="4610160" y="2374920"/>
            <a:ext cx="2628720" cy="2639880"/>
          </a:xfrm>
          <a:prstGeom prst="rect">
            <a:avLst/>
          </a:prstGeom>
          <a:ln w="0">
            <a:noFill/>
          </a:ln>
        </p:spPr>
      </p:pic>
      <p:pic>
        <p:nvPicPr>
          <p:cNvPr id="97" name="All About The Swizz 30 - Rap Upbeat.mp3" descr=""/>
          <p:cNvPicPr/>
          <p:nvPr/>
        </p:nvPicPr>
        <p:blipFill>
          <a:blip r:embed="rId2"/>
          <a:stretch/>
        </p:blipFill>
        <p:spPr>
          <a:xfrm>
            <a:off x="83808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Linking Verb Definition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Linking verbs are verbs that connect or </a:t>
            </a:r>
            <a:r>
              <a:rPr b="1" i="1" lang="en-US" sz="2800" spc="-1" strike="noStrike" u="sng">
                <a:solidFill>
                  <a:srgbClr val="446eb2"/>
                </a:solidFill>
                <a:uFillTx/>
                <a:latin typeface="Arial"/>
              </a:rPr>
              <a:t>LINK</a:t>
            </a: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 the subject of a sentence to other information in the sentence.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Linking verbs do </a:t>
            </a:r>
            <a:r>
              <a:rPr b="1" i="1" lang="en-US" sz="2800" spc="-1" strike="noStrike" u="sng">
                <a:solidFill>
                  <a:srgbClr val="446eb2"/>
                </a:solidFill>
                <a:uFillTx/>
                <a:latin typeface="Arial"/>
              </a:rPr>
              <a:t>NOT</a:t>
            </a: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 show action.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Some Examples of Linking Verbs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828440" y="1676520"/>
            <a:ext cx="2629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23e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3e96"/>
                </a:solidFill>
                <a:latin typeface="Arial"/>
              </a:rPr>
              <a:t>Am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23e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3e96"/>
                </a:solidFill>
                <a:latin typeface="Arial"/>
              </a:rPr>
              <a:t>Are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23e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3e96"/>
                </a:solidFill>
                <a:latin typeface="Arial"/>
              </a:rPr>
              <a:t>Is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23e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3e96"/>
                </a:solidFill>
                <a:latin typeface="Arial"/>
              </a:rPr>
              <a:t>Was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23e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3e96"/>
                </a:solidFill>
                <a:latin typeface="Arial"/>
              </a:rPr>
              <a:t>Were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23e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3e96"/>
                </a:solidFill>
                <a:latin typeface="Arial"/>
              </a:rPr>
              <a:t>Be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23e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3e96"/>
                </a:solidFill>
                <a:latin typeface="Arial"/>
              </a:rPr>
              <a:t>Being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23e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3e96"/>
                </a:solidFill>
                <a:latin typeface="Arial"/>
              </a:rPr>
              <a:t>Been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23e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3e96"/>
                </a:solidFill>
                <a:latin typeface="Arial"/>
              </a:rPr>
              <a:t>Become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23e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3e96"/>
                </a:solidFill>
                <a:latin typeface="Arial"/>
              </a:rPr>
              <a:t>Became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10160" y="1676520"/>
            <a:ext cx="2628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23e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3e96"/>
                </a:solidFill>
                <a:latin typeface="Arial"/>
              </a:rPr>
              <a:t>Sound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3e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3e96"/>
                </a:solidFill>
                <a:latin typeface="Arial"/>
              </a:rPr>
              <a:t>Seem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3e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3e96"/>
                </a:solidFill>
                <a:latin typeface="Arial"/>
              </a:rPr>
              <a:t>Look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3e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3e96"/>
                </a:solidFill>
                <a:latin typeface="Arial"/>
              </a:rPr>
              <a:t>Feel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3e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3e96"/>
                </a:solidFill>
                <a:latin typeface="Arial"/>
              </a:rPr>
              <a:t>Taste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3e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3e96"/>
                </a:solidFill>
                <a:latin typeface="Arial"/>
              </a:rPr>
              <a:t>Grow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3e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3e96"/>
                </a:solidFill>
                <a:latin typeface="Arial"/>
              </a:rPr>
              <a:t>Appear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3e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3e96"/>
                </a:solidFill>
                <a:latin typeface="Arial"/>
              </a:rPr>
              <a:t>Remain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23e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3e96"/>
                </a:solidFill>
                <a:latin typeface="Arial"/>
              </a:rPr>
              <a:t>Smell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1143000" y="12952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6eb2"/>
                </a:solidFill>
                <a:latin typeface="Arial"/>
              </a:rPr>
              <a:t>Forms of Be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3581280" y="12952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6eb2"/>
                </a:solidFill>
                <a:latin typeface="Arial"/>
              </a:rPr>
              <a:t>Could be Action or Linking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Another Way to Remember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828440" y="1676520"/>
            <a:ext cx="6248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46eb2"/>
                </a:solidFill>
                <a:uFillTx/>
                <a:latin typeface="Arial"/>
              </a:rPr>
              <a:t>To the tune of London Bridges: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Am, are, is, was, were, and be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orms of Be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orms of Be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Taste, smell, sound, seem, look, feel,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Grow, appear, remain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Exceptions</a:t>
            </a: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	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Depending on how some are used, some words may be an action verb or linking verb.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Try the substitution test: take out the verb, add is, are, or was. Does it make sense? 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If it does, it is a linking verb.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46eb2"/>
                </a:solidFill>
                <a:latin typeface="Arial"/>
              </a:rPr>
              <a:t>Amy </a:t>
            </a:r>
            <a:r>
              <a:rPr b="0" i="1" lang="en-US" sz="2000" spc="-1" strike="noStrike" u="sng">
                <a:solidFill>
                  <a:srgbClr val="446eb2"/>
                </a:solidFill>
                <a:uFillTx/>
                <a:latin typeface="Arial"/>
              </a:rPr>
              <a:t>looked</a:t>
            </a:r>
            <a:r>
              <a:rPr b="0" lang="en-US" sz="2000" spc="-1" strike="noStrike">
                <a:solidFill>
                  <a:srgbClr val="446eb2"/>
                </a:solidFill>
                <a:latin typeface="Arial"/>
              </a:rPr>
              <a:t> through the telescope.</a:t>
            </a:r>
            <a:endParaRPr b="0" lang="en-US" sz="20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46eb2"/>
                </a:solidFill>
                <a:latin typeface="Arial"/>
              </a:rPr>
              <a:t>Amy </a:t>
            </a:r>
            <a:r>
              <a:rPr b="0" i="1" lang="en-US" sz="2000" spc="-1" strike="noStrike" u="sng">
                <a:solidFill>
                  <a:srgbClr val="446eb2"/>
                </a:solidFill>
                <a:uFillTx/>
                <a:latin typeface="Arial"/>
              </a:rPr>
              <a:t>looked</a:t>
            </a:r>
            <a:r>
              <a:rPr b="0" lang="en-US" sz="2000" spc="-1" strike="noStrike">
                <a:solidFill>
                  <a:srgbClr val="446eb2"/>
                </a:solidFill>
                <a:latin typeface="Arial"/>
              </a:rPr>
              <a:t> pale. </a:t>
            </a:r>
            <a:endParaRPr b="0" lang="en-US" sz="20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Practice Time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Page 359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Exercise 3 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1-10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  <p:pic>
        <p:nvPicPr>
          <p:cNvPr id="111" name="About Time 30 - HipHop Dance.mp3" descr=""/>
          <p:cNvPicPr/>
          <p:nvPr/>
        </p:nvPicPr>
        <p:blipFill>
          <a:blip r:embed="rId1"/>
          <a:stretch/>
        </p:blipFill>
        <p:spPr>
          <a:xfrm>
            <a:off x="685800" y="5943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Extra Practice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8fab0"/>
                </a:solidFill>
                <a:uFillTx/>
                <a:latin typeface="Arial"/>
              </a:rPr>
              <a:t>http://www.curriculumassociates.com/educator-resources/write/grammar/grammarD_3.htm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2T14:45:39Z</dcterms:created>
  <dc:creator>Project Lead the Way</dc:creator>
  <dc:description/>
  <dc:language>en-US</dc:language>
  <cp:lastModifiedBy>tanthony</cp:lastModifiedBy>
  <dcterms:modified xsi:type="dcterms:W3CDTF">2013-10-01T03:31:30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221033</vt:lpwstr>
  </property>
</Properties>
</file>